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3F8B-5E6E-46BE-8A41-86119EBA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5747-3A2A-48C3-9B20-7C0E85DA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4AF8-CA05-4164-A468-9BD53055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359-0C2F-4B37-AC95-03315945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4698A-8CE7-4830-B6A7-2297B545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6054B-5FFD-4A65-A417-90223667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9A85E-9059-4A64-AC7D-60E0D8DC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3EAF4-72FC-4E35-B497-BD8B6BB1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B2384-3670-4A8B-B437-BC931810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ACE25-17C3-433C-85CC-2418BF40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E6FB8-0450-4AF8-98B4-88EC217C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AFF7-9117-4292-8021-9D238CFD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FC925-DC55-4EB1-99C4-533B59E5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B73F6-CC34-424A-977C-6A131C97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8F14F-D5D8-49B3-9B23-AE9252C3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690DC-B93E-46D5-9050-9963CCB8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86F7F-EE3B-42D0-BD1E-980AD81D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46A-522E-4E5F-B734-43A69BD5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3E40-21CF-418A-A3DD-865858E5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0CA6-A7BA-430D-B7CF-1A52AEA4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94E-0A0B-4287-AD08-A574CDEE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DCD7-FF49-45D5-8532-F6377410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F97D-BCCB-486B-8669-CDD81548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C676-3D9A-45F6-9F8C-E56AF1BA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6E5F-C556-467A-A040-9064163089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D689-3AEA-4C2D-832E-1CB64027F0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ces.ed.gov/nceskids/createagraph/default.aspx" TargetMode="External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123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Experimen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125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When you make a graph, how do you know which variable goes on which axis?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1"/>
          </p:cNvPr>
          <p:cNvSpPr/>
          <p:nvPr/>
        </p:nvSpPr>
        <p:spPr>
          <a:xfrm>
            <a:off x="4114800" y="4191120"/>
            <a:ext cx="1219320" cy="914400"/>
          </a:xfrm>
          <a:custGeom>
            <a:avLst/>
            <a:gdLst>
              <a:gd name="textAreaLeft" fmla="*/ 59040 w 1219320"/>
              <a:gd name="textAreaRight" fmla="*/ 1160280 w 1219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8800" h="21600">
                <a:moveTo>
                  <a:pt x="144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8800" h="21600">
                <a:moveTo>
                  <a:pt x="11824" y="8224"/>
                </a:moveTo>
                <a:lnTo>
                  <a:pt x="15688" y="8224"/>
                </a:lnTo>
                <a:lnTo>
                  <a:pt x="15688" y="15221"/>
                </a:lnTo>
                <a:lnTo>
                  <a:pt x="16976" y="15221"/>
                </a:lnTo>
                <a:lnTo>
                  <a:pt x="16976" y="16144"/>
                </a:lnTo>
                <a:lnTo>
                  <a:pt x="11824" y="16144"/>
                </a:lnTo>
                <a:lnTo>
                  <a:pt x="11824" y="15221"/>
                </a:lnTo>
                <a:lnTo>
                  <a:pt x="13112" y="15221"/>
                </a:lnTo>
                <a:lnTo>
                  <a:pt x="13112" y="9129"/>
                </a:lnTo>
                <a:lnTo>
                  <a:pt x="11824" y="912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6:56:13Z</dcterms:created>
  <dc:creator>PritchaJ</dc:creator>
  <dc:description/>
  <dc:language>en-US</dc:language>
  <cp:lastModifiedBy>PritchaJ</cp:lastModifiedBy>
  <dcterms:modified xsi:type="dcterms:W3CDTF">2011-05-24T17:08:22Z</dcterms:modified>
  <cp:revision>3</cp:revision>
  <dc:subject/>
  <dc:title>Slide 1</dc:title>
</cp:coreProperties>
</file>